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91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250920" y="92160"/>
            <a:ext cx="37447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rebuchet MS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rebuchet MS"/>
              </a:rPr>
              <a:t>Depto. Ingeniería Eléct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rebuchet MS"/>
              </a:rPr>
              <a:t>Área de Ener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85840" y="6442200"/>
            <a:ext cx="8605800" cy="0"/>
          </a:xfrm>
          <a:prstGeom prst="line">
            <a:avLst/>
          </a:prstGeom>
          <a:ln w="475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8200" y="915840"/>
            <a:ext cx="8605800" cy="0"/>
          </a:xfrm>
          <a:prstGeom prst="line">
            <a:avLst/>
          </a:prstGeom>
          <a:ln w="475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300720" y="6424560"/>
            <a:ext cx="37800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rebuchet MS"/>
              </a:rPr>
              <a:t>EM736 2006  Profs.: F. Aguirre-Leo, C. Hermans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rebuchet MS"/>
              </a:rPr>
              <a:t>                   </a:t>
            </a:r>
            <a:r>
              <a:rPr b="0" lang="es-ES_tradnl" sz="900" spc="-1" strike="noStrike">
                <a:solidFill>
                  <a:srgbClr val="000000"/>
                </a:solidFill>
                <a:latin typeface="Trebuchet MS"/>
              </a:rPr>
              <a:t>Aux.: Ricardo Fuentes 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EjemploAjustePN.xls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1197000"/>
            <a:ext cx="81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Trebuchet MS"/>
              </a:rPr>
              <a:t>AUXILIAR 9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: Cambios en metodología de precios de clientes regulados introducidos por Ley 20.018/2005 (Ley Corta I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9640" y="2505240"/>
            <a:ext cx="8424720" cy="2292120"/>
            <a:chOff x="539640" y="2505240"/>
            <a:chExt cx="8424720" cy="229212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614520" y="2505240"/>
              <a:ext cx="8128440" cy="22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39640" y="2832840"/>
              <a:ext cx="8424720" cy="1185120"/>
            </a:xfrm>
            <a:prstGeom prst="rect">
              <a:avLst/>
            </a:prstGeom>
            <a:noFill/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324000" y="1989000"/>
            <a:ext cx="77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rebuchet MS"/>
              </a:rPr>
              <a:t>Licitación de contratos de suminis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209080" cy="165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95280" y="3381480"/>
            <a:ext cx="8209080" cy="695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95280" y="4365720"/>
            <a:ext cx="82090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0000" y="1244520"/>
            <a:ext cx="86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rebuchet MS"/>
              </a:rPr>
              <a:t>Sistema de ajuste para Precios de Nu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1749600"/>
            <a:ext cx="8623080" cy="130320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108000" y="3213000"/>
            <a:ext cx="8893080" cy="3024360"/>
            <a:chOff x="108000" y="3213000"/>
            <a:chExt cx="8893080" cy="302436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70000" y="3213000"/>
              <a:ext cx="8604000" cy="30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08000" y="3284640"/>
              <a:ext cx="8893080" cy="1152360"/>
            </a:xfrm>
            <a:prstGeom prst="rect">
              <a:avLst/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209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90160" cy="5053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638172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ejemploajuste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5:55:58Z</dcterms:created>
  <dc:creator>rifuente</dc:creator>
  <dc:description/>
  <dc:language>en-US</dc:language>
  <cp:lastModifiedBy>Ricardo Fuentes</cp:lastModifiedBy>
  <dcterms:modified xsi:type="dcterms:W3CDTF">2006-10-31T00:15:58Z</dcterms:modified>
  <cp:revision>142</cp:revision>
  <dc:subject/>
  <dc:title>Diapositiva 1</dc:title>
</cp:coreProperties>
</file>